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E2C-A8DB-4DFB-B33F-C111ABDB7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F757-B323-4812-956E-7ACF9BE1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E00-1362-403D-A319-AF222CF9D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159-A500-4108-84FB-214BDE39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36CC6-687F-4D56-9E2B-F8F4FC92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16850-6B15-462D-A2FF-39D0A9CB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6E467-8007-45D2-8C26-A2098C97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229D8-4D72-4A93-A89E-13749C3A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C56D1-2744-443A-8141-58F48461E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38AF1-B3FC-4097-A2CB-A152078E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703D8-7A1D-4F51-ADB4-6FC3ABE9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4ED-7BF1-42B0-A0AC-ACAECF06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799A8-457C-451C-B402-C9A593C7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A05283-93C5-42A3-95B8-68A39B8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B9D592-EEB1-42AF-85D3-72819A1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1F486-1D2D-4671-8493-10896051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A16997-9489-4D26-9367-BEC607F75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4E2C-B6F6-4094-B1EF-88BC5F205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1067-C966-4CD9-8068-1649EF3A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5D45-80B6-4289-83D6-CB4BDED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7ED0-E67A-41AD-BA37-38E3260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D40-E055-4312-BC9A-518D01F4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2BAA-A44C-4B9A-B72F-F3A15F1D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5D3-F8C9-4532-A7EC-F664E2AD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DFCF-8839-4AE3-99E0-DEF04DDC8F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0760-5F69-436D-945F-0C9E74FD0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orldwildlife.org/pandas/facts.cf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e3e3ff"/>
                </a:solidFill>
                <a:latin typeface="Arial"/>
              </a:rPr>
              <a:t>IB2 Biology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SP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esigning a Nature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Ex Situ vs. In Situ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Discuss what the following terms mean in reference to ‘conservation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Situ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 Situ Conser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 Situ Conservation: Conservation efforts that are made by keeping the organism(s) in its/their natural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x Situ Conservation: Conservation efforts that are made by removing the organism(s) from its/their natural habit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What are some examples of each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e3e3ff"/>
                </a:solidFill>
                <a:latin typeface="Arial"/>
              </a:rPr>
              <a:t>Discuss whether the following are in situ or ex situ conservation effor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Zo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ature Reser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fari Pa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eed Ban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otanical G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almon fa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An example: Panda Bea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0" descr="panda_eating_3370_473"/>
          <p:cNvPicPr/>
          <p:nvPr/>
        </p:nvPicPr>
        <p:blipFill>
          <a:blip r:embed="rId1"/>
          <a:stretch/>
        </p:blipFill>
        <p:spPr>
          <a:xfrm>
            <a:off x="3056040" y="1330200"/>
            <a:ext cx="31716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3e3ff"/>
                </a:solidFill>
                <a:latin typeface="Arial"/>
              </a:rPr>
              <a:t>Panda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ndangered species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ery difficult to get them to breed in captiv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w effort is to set up ‘panda farms’ in areas where they l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uch more success with 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worldwildlife.org/pandas/facts.cf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6" name="Picture 4" descr="9147cd_panda_bears"/>
          <p:cNvPicPr/>
          <p:nvPr/>
        </p:nvPicPr>
        <p:blipFill>
          <a:blip r:embed="rId1"/>
          <a:stretch/>
        </p:blipFill>
        <p:spPr>
          <a:xfrm>
            <a:off x="2771640" y="1773360"/>
            <a:ext cx="3929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Your task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design both an in situ and ex situ reserve for your chosen endangered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will discuss the strengths and limitations of each approach and decide the approach you would recommend for your species. Present this to the class with your rationa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7:38:37Z</dcterms:created>
  <dc:creator>kduguay</dc:creator>
  <dc:description/>
  <dc:language>en-US</dc:language>
  <cp:lastModifiedBy>Branksome Hall</cp:lastModifiedBy>
  <dcterms:modified xsi:type="dcterms:W3CDTF">2010-05-18T14:23:01Z</dcterms:modified>
  <cp:revision>5</cp:revision>
  <dc:subject/>
  <dc:title>IB2 Biology </dc:title>
</cp:coreProperties>
</file>